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0FA-50B4-4C2B-9AD4-7CE32B47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B29-4EE4-42BC-BE9A-7DAF7B6C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697-AAE3-4701-B9A4-8B6A2002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028-4F31-4944-B074-E1A196E9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3EC-3CFB-4DC9-944F-A9EB1124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38A-BA81-471D-92A5-CAAFDC2F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7A1-9601-43DC-A6CE-E2C1A3DB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03B-A020-4D2C-A0EB-3403E939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EEF-9A01-4510-B839-788C65A0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68CD-FA6D-4EDF-91AF-646E2AD5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CF5-F28D-415E-9E76-D195CE11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D43-C4E2-4855-802C-6FD27CCD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0019-5FCF-4C6C-8E7F-7BB77038F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6:27:37Z</dcterms:created>
  <dc:creator>Grupo Editorial</dc:creator>
  <dc:description/>
  <dc:language>en-US</dc:language>
  <cp:lastModifiedBy>Grupo Editorial</cp:lastModifiedBy>
  <dcterms:modified xsi:type="dcterms:W3CDTF">2001-11-20T16:30:38Z</dcterms:modified>
  <cp:revision>1</cp:revision>
  <dc:subject/>
  <dc:title>Sin título de diapositiva</dc:title>
</cp:coreProperties>
</file>